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779-86A6-475E-9E1A-E4BEB11D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D0A-2F68-4F8D-98C1-9B8A65BD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423-DC2B-422E-AD23-BD698F06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F9C8-745E-42E3-8956-356CF15C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BDF-1DD5-401F-8204-9A20BAD5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0E2-A5EC-40D1-AD01-47DA0B6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16D-3475-4B62-BD10-FCD5D74C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757-D25D-4DF3-86D0-2F83C842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B697-99C9-4D57-9EF8-2F2A711A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38B-BAB0-4EDE-8D0E-AE03142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689-A929-4A30-A972-AB90932B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A1C-4497-4D8D-AED9-4CD0CE7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46DB-5290-47EE-A1F0-68FA9BB81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43600" cy="356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505320"/>
            <a:ext cx="79246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è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adeloupe est très bonne! Aujourd’hui, je suis arrivée a l’hôtel Ti’ Figues. La plage est très belle! Je suis allée à la planche à voile. J’ai visité Grand Cul De Sac Marin. Je n’ai pas visité Parc National de la Guadeloupe. J’ai dîné a &lt;&lt;les amandlers&gt;&gt;. J’ai vu Dalia, mais je n’ai jamias vu Beca aujourd’hui, demain, je vais voir Bec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43400" y="152280"/>
            <a:ext cx="45720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, je suis allée en kayak. J’ai mangé le petit déjouner a Cha Cha café. Après le petit déjouner j’ai visité Bourg des Saintes. J’ai vu becca aujourd’hui. J’ai nagé dans la mer. J’ai mange le déjouner a “chez Toulouse.” puis, je suis allée  à la plage. Aprés la plage, j’ai mange le dîner au &lt;&lt;le Genois.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3854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038480"/>
            <a:ext cx="6553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 Mam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, j’ai vu Spencer. La météo aujourd’hui, je suis allée faire le shopping dans Saint Martin.J’ai acheté un collier. J’ai mange dîner au,Les Amandlers.&gt;&gt; encore. Je n’ai jamais alle dair du sur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14600" y="2414520"/>
            <a:ext cx="6629400" cy="4443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609480"/>
            <a:ext cx="8229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 matin, aprés le petit dejeurner au Cha Cha cafe, je suis allée a la voile. Je ne suis jamias au Jardin Botanique de Deshales. J’ai mange le dejourner  á l’habiscus. J’ai mangé au l’habiscus de nouveau pour le dî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3605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9880"/>
            <a:ext cx="8839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er Pap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jourd’hui c’est ma dernière journée! Je suis triste. Je recommande l’hôtel Ti’Figues a tout le monde. Guadeloupe est une île magnifique. Je n’ai jamias alle à Anse Tar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40:18Z</dcterms:created>
  <dc:creator>faheyale</dc:creator>
  <dc:description/>
  <dc:language>en-US</dc:language>
  <cp:lastModifiedBy>faheyale</cp:lastModifiedBy>
  <dcterms:modified xsi:type="dcterms:W3CDTF">2012-02-03T13:10:45Z</dcterms:modified>
  <cp:revision>5</cp:revision>
  <dc:subject/>
  <dc:title>Slide 1</dc:title>
</cp:coreProperties>
</file>